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617-0FD7-4C47-A6ED-802788288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56A8-DCC7-4EB2-9204-CD8405154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396C-21B3-4404-8B44-DEA2793BC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10B-B426-47FC-B168-6E9FA1511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E08-4C37-463F-A613-90AD4F167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5B29-DC18-47C7-9C55-F13CC084B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BEAF-303D-4B83-8FAB-5A97BC85E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56F7-77CA-4B74-A9B7-AA5143E74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6057-1984-465F-913F-94E76D760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219-D5BD-4273-9FA3-86C9250A7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056-B344-4A0E-BC80-9B6D2E7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F38-3281-4951-8407-BAA993E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6F1-C44D-49A0-8C98-D79421A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0C7-E3B6-4BB9-A637-2445C80F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7B1-CF65-47EB-8960-7A9EB4DB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C2D-6265-47FA-B0E7-1593358B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D914-D589-4D45-BB96-02DF0EB28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B33-0B05-4317-8415-95BF5C2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933-4816-481A-B973-6595126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D17-B2EA-474E-833D-CC7DE8B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88F-FDA7-4ED6-A3E0-612704F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2C9-92BB-47FA-A4CF-54BCAAFCE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6E41-15E0-4FB1-BEA5-28EA132E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B24-F4D0-4F04-A76D-9B8730D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49C-A9F2-4A22-A768-F02747E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09E-833C-419B-B13C-ED8669B1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6A58-7353-4BF0-B2FF-52C331A2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D7A6-8225-4310-93FE-B69172D9CA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F52E-1091-4688-804E-E22A5569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28F1-6563-4354-963F-03188B8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1911-23E5-44B2-B296-8D8DCBB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BABB-A068-42EF-8843-328FA6F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FC08-01B5-44E4-805E-2422CAF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78A-2412-4530-8D5D-95EC6D71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1E2E-0E51-40D5-8E9D-3EECBAD0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23AB-4C48-42F3-B699-361643F9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CC82-ABAA-4E8F-A27F-3AF8EF93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E493-E8B9-41FC-9D56-1903766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398E-2EB9-4C8E-8FAC-CE69445EEC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C617-618F-4F3B-93F1-AD24B72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62E2-481B-4F77-99E8-67AA2434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3746-F24A-4499-9660-0BEEDD0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513F-FB26-44E2-9088-EBB04FF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F5D1-A08C-4419-AE6E-670F859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B3AD-15F7-4172-8259-6CF7A25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F06C-C0CB-4863-8184-9D4FDAF7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A0D6-61AC-45F8-821A-E8E6E20E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A332-731E-42E2-A461-49CA009A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4FDC-4B1D-467F-B859-6235D60BE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BA5F-EB31-40C0-A933-6FED69B4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E9D6-C58F-45E8-9415-16B09C55A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F454-35EC-4A76-8425-D68883C99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CC8C-2ED0-4C28-8AD4-97F6DB560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90612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7"/>
          <p:cNvSpPr/>
          <p:nvPr/>
        </p:nvSpPr>
        <p:spPr>
          <a:xfrm>
            <a:off x="0" y="6553080"/>
            <a:ext cx="9906120" cy="3049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8"/>
          <p:cNvSpPr/>
          <p:nvPr/>
        </p:nvSpPr>
        <p:spPr>
          <a:xfrm>
            <a:off x="144360" y="6380280"/>
            <a:ext cx="33048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570440" y="6571800"/>
            <a:ext cx="231156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B85-F16E-48DD-8550-C2BF59A7AB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Дата 3"/>
          <p:cNvSpPr/>
          <p:nvPr/>
        </p:nvSpPr>
        <p:spPr>
          <a:xfrm>
            <a:off x="412920" y="6572160"/>
            <a:ext cx="5468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На основании данных из докладов  глав муниципальных образований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\\Oitsrv\otdel\TIF\Орел\Герб Орла 4.07.jpg"/>
          <p:cNvPicPr/>
          <p:nvPr/>
        </p:nvPicPr>
        <p:blipFill>
          <a:blip r:embed="rId2"/>
          <a:stretch/>
        </p:blipFill>
        <p:spPr>
          <a:xfrm>
            <a:off x="9140760" y="98280"/>
            <a:ext cx="65880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452520" y="1285920"/>
            <a:ext cx="1062000" cy="149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66680" y="428760"/>
            <a:ext cx="1643040" cy="21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0" y="3200400"/>
            <a:ext cx="990612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0" y="3357720"/>
            <a:ext cx="2309760" cy="350028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95360" y="4572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\\Oitsrv\otdel\TIF\Орел\Герб Орла 4.07.jpg"/>
          <p:cNvPicPr/>
          <p:nvPr/>
        </p:nvPicPr>
        <p:blipFill>
          <a:blip r:embed="rId2"/>
          <a:stretch/>
        </p:blipFill>
        <p:spPr>
          <a:xfrm>
            <a:off x="452520" y="696960"/>
            <a:ext cx="1309680" cy="1803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0"/>
          <p:cNvSpPr/>
          <p:nvPr/>
        </p:nvSpPr>
        <p:spPr>
          <a:xfrm>
            <a:off x="2309760" y="-11160"/>
            <a:ext cx="7596360" cy="321480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3879360" y="6508440"/>
            <a:ext cx="2311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7098840" y="6476760"/>
            <a:ext cx="23115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D53-36B8-401F-9CBB-AE2C01093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5"/>
          <p:cNvSpPr/>
          <p:nvPr/>
        </p:nvSpPr>
        <p:spPr>
          <a:xfrm>
            <a:off x="0" y="0"/>
            <a:ext cx="990612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0" y="6553080"/>
            <a:ext cx="9906120" cy="3049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144360" y="6380280"/>
            <a:ext cx="33048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12920" y="6572160"/>
            <a:ext cx="5468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На основании данных из докладов  глав муниципальных образований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\\Oitsrv\otdel\TIF\Орел\Герб Орла 4.07.jpg"/>
          <p:cNvPicPr/>
          <p:nvPr/>
        </p:nvPicPr>
        <p:blipFill>
          <a:blip r:embed="rId2"/>
          <a:stretch/>
        </p:blipFill>
        <p:spPr>
          <a:xfrm>
            <a:off x="9140760" y="98280"/>
            <a:ext cx="658800" cy="906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BCD-AE21-4144-A1A5-3C7B8E62F4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7570440" y="6571800"/>
            <a:ext cx="231156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140-7E6B-4DB3-89A0-9F054BB18E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0" y="0"/>
            <a:ext cx="990612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0" y="6553080"/>
            <a:ext cx="9906120" cy="3049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144360" y="6380280"/>
            <a:ext cx="33048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412920" y="6572160"/>
            <a:ext cx="5468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На основании данных из докладов  глав муниципальных образований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\\Oitsrv\otdel\TIF\Орел\Герб Орла 4.07.jpg"/>
          <p:cNvPicPr/>
          <p:nvPr/>
        </p:nvPicPr>
        <p:blipFill>
          <a:blip r:embed="rId2"/>
          <a:stretch/>
        </p:blipFill>
        <p:spPr>
          <a:xfrm>
            <a:off x="9140760" y="98280"/>
            <a:ext cx="658800" cy="906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E4C1-655B-4513-90C9-A063AE6E65E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9"/>
          </p:nvPr>
        </p:nvSpPr>
        <p:spPr>
          <a:xfrm>
            <a:off x="7570440" y="6571800"/>
            <a:ext cx="231156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318-0480-4A85-AD05-CC75AD21C18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81080" y="428616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сводный доклад Орловской области о результатах мониторинга эффективности деятельности органов местного самоуправления городских округов и муниципальных районо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7" descr="53_f.gif"/>
          <p:cNvPicPr/>
          <p:nvPr/>
        </p:nvPicPr>
        <p:blipFill>
          <a:blip r:embed="rId1"/>
          <a:stretch/>
        </p:blipFill>
        <p:spPr>
          <a:xfrm>
            <a:off x="468360" y="20145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440" y="857160"/>
            <a:ext cx="8929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я многоквартирных домов, расположенных на земельных участках, в отношении которых осуществлен государственный кадастровый учет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7E0-79F4-4781-B878-B159DAE3557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3873600" y="2022480"/>
            <a:ext cx="55800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ение государственного кадастрового учета граждан направлено на установление границ земельного участка, относящегося к многоквартирному дому, развитие инициативы собственников жилых помещений по управлению общедомовым имуще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2008 году только в 7 муниципальных образованиях области доля многоквартирных домов, расположенных на земельных участках, в отношении которых осуществлен государственный кадастровый учет, составила более 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Болховский, Знаменский, Кромской, Мценский, Троснянский, Хотынецкий районы и город Оре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9 муниципальных образованиях этот показатель составляет от 10 до 5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хема 6" descr=""/>
          <p:cNvPicPr/>
          <p:nvPr/>
        </p:nvPicPr>
        <p:blipFill>
          <a:blip r:embed="rId2"/>
          <a:stretch/>
        </p:blipFill>
        <p:spPr>
          <a:xfrm>
            <a:off x="371520" y="4267080"/>
            <a:ext cx="2017800" cy="6033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0"/>
          <p:cNvSpPr/>
          <p:nvPr/>
        </p:nvSpPr>
        <p:spPr>
          <a:xfrm>
            <a:off x="380880" y="5048280"/>
            <a:ext cx="907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числу муниципалитетов, где доля таких многоквартирных домов составляет от 1 до 10%, относятся 9 муниципальных образований. В Корсаковском районе показатель равен 0,7%, а в Должанском районе такая работа не вела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7" descr="62_f.gif"/>
          <p:cNvPicPr/>
          <p:nvPr/>
        </p:nvPicPr>
        <p:blipFill>
          <a:blip r:embed="rId1"/>
          <a:stretch/>
        </p:blipFill>
        <p:spPr>
          <a:xfrm>
            <a:off x="3309840" y="1943280"/>
            <a:ext cx="3333960" cy="2700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2160" y="99972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объектов капитального строительства, по которым не соблюдены нормативные или  плановые сроки ввода в эксплуатацию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общем количестве объектов капитального строительства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857C-51F1-4690-A7A6-A8278C537F6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52520" y="5000760"/>
            <a:ext cx="9001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5 муниципальных образованиях Орловской области доля таких объектов составляет от 20 до 100% (Дмитровский, Ливенский, Покровский, города Орел и Ливны). В Верховском и Мценском районах показатель составляет соответственно 3% и 4,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муниципальных образованиях объекты капитального строительства введены в эксплуатацию в установленные сро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хема 6" descr=""/>
          <p:cNvPicPr/>
          <p:nvPr/>
        </p:nvPicPr>
        <p:blipFill>
          <a:blip r:embed="rId2"/>
          <a:stretch/>
        </p:blipFill>
        <p:spPr>
          <a:xfrm>
            <a:off x="3286080" y="4127400"/>
            <a:ext cx="1889280" cy="596880"/>
          </a:xfrm>
          <a:prstGeom prst="rect">
            <a:avLst/>
          </a:prstGeom>
          <a:ln w="0">
            <a:noFill/>
          </a:ln>
        </p:spPr>
      </p:pic>
      <p:sp>
        <p:nvSpPr>
          <p:cNvPr id="235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66720" y="770040"/>
            <a:ext cx="8286840" cy="573084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4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B17-C81B-4CB3-8497-8D394757994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2160" y="1428480"/>
            <a:ext cx="9001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доступности жилья для населения является одной из приоритетных задач социально-экономического развития. 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отчетном периоде отмечается определенное улучшение административных условий для жилищного строительства, в частности сокращаются сроки выдачи разрешений на строительство. На 5,7% увеличился объем ввода жилых домов. 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практически повсеместно отмечается отсутствие необходимой градостроительной документации, контроля за ходом строительства, недостаточная работа с земельными участками. 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основным причинам недостаточной работы также следует отнести: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проблемы с обеспечением земельных участков коммунальной инфраструктурой при отсутствии механизмов привлечения частных инвестиционных и кредитных ресурсов в строительство и модернизацию соответствующих объектов;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сложности вовлечения в хозяйственный оборот потенциально привлекательных для жилищного строительства земельных участков.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числу муниципалитетов – аутсайдеров по показателям, характеризующих жилищное строительство, следует отнести Должанский район, Колпнянский, Верховский, Новодеревеньковский, Покровский и Корсаковский районы.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илучшие показатели сложились в городах Орел, Ливны и Мценск. Среди сельских муниципальных образований наилучшие по сумме показатели сложились в Кромском, Сосковском и Шаблыкинском районах.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7D6-0745-4905-BF09-F550F0DE373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3760" y="1000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8520" y="1571400"/>
            <a:ext cx="90010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целях реализации Указа Президента Российской Федерации от 28 апреля № 607 «Об оценке эффективности деятельности органов местного самоуправления городских округов и муниципальных районов» в перечень показателей были включены дополнительные показатели для оценки эффективности органов местного самоуправления, которые касаются сельскохозяйственной отрасли: </a:t>
            </a:r>
            <a:endParaRPr b="1" lang="en-US" sz="16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Удельный вес прибыльных сельскохозяйственных организаций в общем их числе (для муниципальных районов), %.</a:t>
            </a:r>
            <a:endParaRPr b="1" lang="en-US" sz="1600" spc="-1" strike="noStrike">
              <a:solidFill>
                <a:srgbClr val="328c83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Доля фактически используемых сельскохозяйственных угодий в общей площади сельскохозяйственных угодий муниципального района, %.</a:t>
            </a:r>
            <a:endParaRPr b="1" lang="en-US" sz="16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B00-205B-42A0-992E-A6FE22D463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11_f.gif"/>
          <p:cNvPicPr/>
          <p:nvPr/>
        </p:nvPicPr>
        <p:blipFill>
          <a:blip r:embed="rId1"/>
          <a:stretch/>
        </p:blipFill>
        <p:spPr>
          <a:xfrm>
            <a:off x="468360" y="1714680"/>
            <a:ext cx="3333600" cy="2700000"/>
          </a:xfrm>
          <a:prstGeom prst="rect">
            <a:avLst/>
          </a:prstGeom>
          <a:ln w="0">
            <a:noFill/>
          </a:ln>
        </p:spPr>
      </p:pic>
      <p:sp>
        <p:nvSpPr>
          <p:cNvPr id="247" name="Содержимое 2"/>
          <p:cNvSpPr/>
          <p:nvPr/>
        </p:nvSpPr>
        <p:spPr>
          <a:xfrm>
            <a:off x="3952800" y="1714680"/>
            <a:ext cx="55008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ь по удельному весу прибыльных сельскохозяйственных организаций в общем их числе по муниципальным районам области за 2008 год условно разделён на 3 группы. Наибольший удельный вес прибыльных сельскохозяйственных организаций в общем их числе получен в 11 районах области (от 85 до 100%). По сравнению с 2007 годом данный показатель стал ниже, так как в 2007 году  данная группа включала 12 районов обл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высшее значение по данному показателю достигнуто в 8 районах – Глазуновском, Должанском, Малоархангельском, Мценском, Свердловском, Сосковском, Знаменском, Краснозоренском, в 2007 году наивысшее значение по данному показателю было достигнуто в 9 район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109548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166680" y="1000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Удельный вес прибыльных сельскохозяйственных организаций в общем их чи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Схема 6" descr=""/>
          <p:cNvPicPr/>
          <p:nvPr/>
        </p:nvPicPr>
        <p:blipFill>
          <a:blip r:embed="rId2"/>
          <a:stretch/>
        </p:blipFill>
        <p:spPr>
          <a:xfrm>
            <a:off x="444600" y="4022640"/>
            <a:ext cx="1834920" cy="604800"/>
          </a:xfrm>
          <a:prstGeom prst="rect">
            <a:avLst/>
          </a:prstGeom>
          <a:ln w="0">
            <a:noFill/>
          </a:ln>
        </p:spPr>
      </p:pic>
      <p:sp>
        <p:nvSpPr>
          <p:cNvPr id="251" name="Номер слайда 10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F4A-2D46-44D8-9FAA-1A68AF4ADA6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452520" y="4714920"/>
            <a:ext cx="89294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ую группу (от 70 до 85%) вошли 9 районов области, что выше уровня прошлого года, данная группа в 2007 году состояла из 7 районов. В третью группу вошли 4 рай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исле отстающих на протяжении двух лет остаются Хотынецкий и Покровский районы, причем по Покровскому району прослеживается тенденция на снижение анализируемого показ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Содержимое 2"/>
          <p:cNvSpPr/>
          <p:nvPr/>
        </p:nvSpPr>
        <p:spPr>
          <a:xfrm>
            <a:off x="3952800" y="1785960"/>
            <a:ext cx="5572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ь по доли фактически используемых сельскохозяйственных угодий в общей площади сельскохозяйственных угодий по муниципальным районам за 2008 год так же условно разделён на 3 групп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авнительный анализ показывает, что доля фактически используемых сельскохозяйственных угодий в общей площади сельскохозяйственных угодий наиболее высокая в Должанском, Ливенском, Покровском и Урицком районах (свыше 85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ую группу (от 70 до 85%) вошли 13 районов, что почти соответствует такому же количеству данной группы за 2007 год. Наихудшие значения по доли фактически используемых сельскохозяйственных угодий в общей площади сельскохозяйственных угодий муниципального района за 2008 год выявлены в Шаблыкинском, Корсаковском и Дмитровском районах – 60, 59 и 49%, соответствен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0" y="1000080"/>
            <a:ext cx="1023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и фактически используемых сельскохозяйственных угодий в общей площади сельскохозяйственных угод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8" descr="12_f.gif"/>
          <p:cNvPicPr/>
          <p:nvPr/>
        </p:nvPicPr>
        <p:blipFill>
          <a:blip r:embed="rId1"/>
          <a:stretch/>
        </p:blipFill>
        <p:spPr>
          <a:xfrm>
            <a:off x="468360" y="18003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57" name="Номер слайда 10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BC8-6A22-4B0F-BF7E-D11C04EB0A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Схема 7" descr=""/>
          <p:cNvPicPr/>
          <p:nvPr/>
        </p:nvPicPr>
        <p:blipFill>
          <a:blip r:embed="rId2"/>
          <a:stretch/>
        </p:blipFill>
        <p:spPr>
          <a:xfrm>
            <a:off x="444600" y="4164120"/>
            <a:ext cx="19018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2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0E9-6C47-4A8B-B702-C8A5A9CA002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666720" y="928800"/>
            <a:ext cx="84200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емпы роста номинальной начисленной заработной платы учителей муниципальных общеобразовательных учреждений (2008/2007 г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4" descr="14-1_f.gif"/>
          <p:cNvPicPr/>
          <p:nvPr/>
        </p:nvPicPr>
        <p:blipFill>
          <a:blip r:embed="rId1"/>
          <a:stretch/>
        </p:blipFill>
        <p:spPr>
          <a:xfrm>
            <a:off x="468360" y="1943280"/>
            <a:ext cx="3333600" cy="2700000"/>
          </a:xfrm>
          <a:prstGeom prst="rect">
            <a:avLst/>
          </a:prstGeom>
          <a:ln w="0">
            <a:noFill/>
          </a:ln>
        </p:spPr>
      </p:pic>
      <p:pic>
        <p:nvPicPr>
          <p:cNvPr id="263" name="Схема 5" descr=""/>
          <p:cNvPicPr/>
          <p:nvPr/>
        </p:nvPicPr>
        <p:blipFill>
          <a:blip r:embed="rId2"/>
          <a:stretch/>
        </p:blipFill>
        <p:spPr>
          <a:xfrm>
            <a:off x="244440" y="4237200"/>
            <a:ext cx="2644920" cy="60300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-262080" y="0"/>
            <a:ext cx="4596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ровень доходов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881520" y="1857240"/>
            <a:ext cx="560844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по области заработная плата учителей государственных и муниципальных общеобразовательных учреждений в 2008 году составил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,6 тыс.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рост к уровню 2007 года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инальная зарплата учителей по муниципальным образованиям колеблется от минимальной величины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,8 тыс.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в Урицком районе, до максимальной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,2 тыс.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в Малоархангельском райо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ами большими, относительно среднеобластного, росла заработная плата учителей в 11 муниципальных образованиях – разрыв от 2 до 11 процентных пунктов, на уровне среднеобластного и темпами, меньшими не более чем на 5 п. п., росла заработная плата в 6 районах. Осталась на уровне 2008 года зарплата учителей в городе Орле (7,9 тыс. рублей) и Знаменском районе (8,6 тыс. рублей), выросла за отчетный год менее чем на 15% зарплата в 8 муниципалитет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6" descr="13_f.gif"/>
          <p:cNvPicPr/>
          <p:nvPr/>
        </p:nvPicPr>
        <p:blipFill>
          <a:blip r:embed="rId1"/>
          <a:stretch/>
        </p:blipFill>
        <p:spPr>
          <a:xfrm>
            <a:off x="468360" y="185724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3809880" y="1920960"/>
            <a:ext cx="56437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52520" y="785880"/>
            <a:ext cx="8643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среднемесячной номинальной начисленной заработной платы работников муниципальных учреждений к среднемесячной номинальной начисленной заработной плате  работников крупных и средних предприятий и некоммерческих организаций городского округа (муниципального район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180F-F265-4368-A086-5C657BA56AE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Заголовок 1"/>
          <p:cNvSpPr/>
          <p:nvPr/>
        </p:nvSpPr>
        <p:spPr>
          <a:xfrm>
            <a:off x="-262080" y="0"/>
            <a:ext cx="4596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ровень доходов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Схема 12" descr=""/>
          <p:cNvPicPr/>
          <p:nvPr/>
        </p:nvPicPr>
        <p:blipFill>
          <a:blip r:embed="rId2"/>
          <a:stretch/>
        </p:blipFill>
        <p:spPr>
          <a:xfrm>
            <a:off x="244440" y="4095720"/>
            <a:ext cx="2644920" cy="598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944880" y="1844640"/>
            <a:ext cx="55450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мотря на ежегодный рост номинальной заработной платы работников муниципальных учреждений, ее отставание от заработной платы работников, занятых в сфере экономики остается еще значительным. Уровень заработной платы определяется, в первую очередь, структурой экономики территории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ьшее отставание заработной платы работников муниципальных учреждений от заработной платы работников, занятых в сфере экономики, наблюдалось в 3 городских округах (г. Орел – 43,1%, г. Ливны – 36,3%, г. Мценск – 35,1%) и 3 муниципальных районах (Орловский – 38,1%, Свердловский – 35,5%, Должанский – 34%), в которых достаточно развито промышленное производство, строительство, транспорт и связ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8880" y="4724280"/>
            <a:ext cx="900108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именьшая разница (менее 20%) в оплате труда работников муниципальных учреждений от работников крупных и средних предприятий и некоммерческих организаций сложилась в 9 муниципальных образованиях, в которых развито в основном сельское хозяйство с невысоким уровнем заработной платы. В остальных 12 муниципальных районах разрыв колеблется от 20 до 30%, что также характеризуется как негативная тенден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ение оптимального баланса оплаты труда различных категорий работников муниципальных учреждений является необходимой предпосылкой оказания качественных социальных услуг насел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5" descr="14-2_f.gif"/>
          <p:cNvPicPr/>
          <p:nvPr/>
        </p:nvPicPr>
        <p:blipFill>
          <a:blip r:embed="rId1"/>
          <a:stretch/>
        </p:blipFill>
        <p:spPr>
          <a:xfrm>
            <a:off x="468360" y="165744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80560" y="1000080"/>
            <a:ext cx="84582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емпы роста номинальной начисленной заработной платы врачей муниципальных учреждений здравоохранения  (2008/2007 гг.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Номер слайда 7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6407-482A-41B6-A506-1262A5ABD71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4"/>
          <p:cNvSpPr/>
          <p:nvPr/>
        </p:nvSpPr>
        <p:spPr>
          <a:xfrm>
            <a:off x="3952800" y="1817640"/>
            <a:ext cx="550080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по области заработная плата врачей государственных и муниципальных учреждений здравоохранения в 2008 году составил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,9 тыс. рублей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ост к уровню 2007 года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7%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инальная зарплата врачей по муниципальным образованиям различна и колеблется от минимальной величины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,7 тыс.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в Глазуновском районе, до максимальной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,8 тыс.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в Колпнянском районе. Такой разрыв объясняется неполной укомплектованностью сельских медицинских учреждений, отсутствием врачей узкой специализации и, как следствие, работой сразу на нескольких ста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Схема 6" descr=""/>
          <p:cNvPicPr/>
          <p:nvPr/>
        </p:nvPicPr>
        <p:blipFill>
          <a:blip r:embed="rId2"/>
          <a:stretch/>
        </p:blipFill>
        <p:spPr>
          <a:xfrm>
            <a:off x="115920" y="3876840"/>
            <a:ext cx="3486240" cy="6030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8"/>
          <p:cNvSpPr/>
          <p:nvPr/>
        </p:nvSpPr>
        <p:spPr>
          <a:xfrm>
            <a:off x="452520" y="4572000"/>
            <a:ext cx="900108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роде Орле  и Знаменском районе заработная плата врачей в течение 2008 года не изменилась и составила 14 тыс. рублей, в Ливенском (17,6 тыс. рублей) и Новодеревеньковском (13,6 тыс. рублей) районах – даже снизилась на 26 и 7% соответственно. В 12 районах области зарплата врачей росла меньшими темпами относительно среднеобластного роста, в 11 – больш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2008 год более всего повысилась зарплата у врачей Корсаковского (17 тыс. рублей, 163% к 2007 году)  и Свердловского районов (19,7 тыс. рублей, 175%), Хотынецкого (19 тыс. рублей, 133%), Малоархангельского (17,2 тыс. рублей, 133%) районов и города Мценск (16,2 тыс. рублей, 13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-262080" y="0"/>
            <a:ext cx="4596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ровень доходов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040" y="-21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одержание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614-CC73-4F24-B179-15442FE77B1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4520" y="1849320"/>
            <a:ext cx="9145440" cy="84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.…………….………………………………………..…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ство и транспо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ельское хозя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ровень доходов насе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дравоохран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раз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Физическая культура и спо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Жилищно-коммунальное хозяйство и жилищная поли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рганизация муниципального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r" pos="8879040"/>
                <a:tab algn="r" pos="8974080"/>
                <a:tab algn="r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2160" y="642600"/>
            <a:ext cx="8915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населения, охваченного профилактическими осмотрам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A9A-441E-4DAD-B692-8EC4E513C57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7" descr="16_f.gif"/>
          <p:cNvPicPr/>
          <p:nvPr/>
        </p:nvPicPr>
        <p:blipFill>
          <a:blip r:embed="rId1"/>
          <a:stretch/>
        </p:blipFill>
        <p:spPr>
          <a:xfrm>
            <a:off x="468360" y="178128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84" name="Заголовок 1"/>
          <p:cNvSpPr/>
          <p:nvPr/>
        </p:nvSpPr>
        <p:spPr>
          <a:xfrm>
            <a:off x="23760" y="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Схема 6" descr=""/>
          <p:cNvPicPr/>
          <p:nvPr/>
        </p:nvPicPr>
        <p:blipFill>
          <a:blip r:embed="rId2"/>
          <a:stretch/>
        </p:blipFill>
        <p:spPr>
          <a:xfrm>
            <a:off x="371520" y="4084560"/>
            <a:ext cx="2017800" cy="779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873600" y="1557360"/>
            <a:ext cx="561636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этой работы позволяет выявить ряд серьезных заболеваний на более ранних стадиях, обеспечив улучшение результат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чения и прогноза течения болезни. Так в рамках реализации национального проекта в сфере здравоохранения за 8 месяцев 200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а по области проведена дополнительная диспансеризация 26302 работающих, что составило 65,13% от плановых показателей. Оплачено счетов на сумму свыше 17 млн. рублей, что составило 41% от выделенных федераль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едостаточном уровне находится организация проведения дополнительной диспансеризации в МУЗ «Ливенская ЦРБ» (оплачено лишь 26,5% счетов), МУЗ «Должанская ЦРБ» – 29,3%, МУЗ «Краснозоренская ЦРБ» – 25,5%, МУЗ «Троснянская ЦРБ» – 25,9%. Несмотря на многочисленные напоминания эта работа практически  саботируется в МУЗ «Малоархангельская ЦРБ» (0 случаев) и МУЗ «Свердловская ЦРБ» – (2,3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1071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случаев смерти лиц в возрасте до 65 лет  на дому - всего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Номер слайда 1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02A-A061-4F80-AE1F-43B23B66626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Заголовок 1"/>
          <p:cNvSpPr/>
          <p:nvPr/>
        </p:nvSpPr>
        <p:spPr>
          <a:xfrm>
            <a:off x="5167440" y="714240"/>
            <a:ext cx="4286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случаев смерти детей до 18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Схема 8" descr=""/>
          <p:cNvPicPr/>
          <p:nvPr/>
        </p:nvPicPr>
        <p:blipFill>
          <a:blip r:embed="rId1"/>
          <a:stretch/>
        </p:blipFill>
        <p:spPr>
          <a:xfrm>
            <a:off x="231840" y="4157640"/>
            <a:ext cx="294480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Схема 10" descr=""/>
          <p:cNvPicPr/>
          <p:nvPr/>
        </p:nvPicPr>
        <p:blipFill>
          <a:blip r:embed="rId2"/>
          <a:stretch/>
        </p:blipFill>
        <p:spPr>
          <a:xfrm>
            <a:off x="5510160" y="4145040"/>
            <a:ext cx="2305080" cy="7808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7" descr="19_f.gif"/>
          <p:cNvPicPr/>
          <p:nvPr/>
        </p:nvPicPr>
        <p:blipFill>
          <a:blip r:embed="rId3"/>
          <a:stretch/>
        </p:blipFill>
        <p:spPr>
          <a:xfrm>
            <a:off x="468360" y="1871640"/>
            <a:ext cx="3333600" cy="27003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2" descr="20_f.gif"/>
          <p:cNvPicPr/>
          <p:nvPr/>
        </p:nvPicPr>
        <p:blipFill>
          <a:blip r:embed="rId4"/>
          <a:stretch/>
        </p:blipFill>
        <p:spPr>
          <a:xfrm>
            <a:off x="5667480" y="185724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94" name="Заголовок 1"/>
          <p:cNvSpPr/>
          <p:nvPr/>
        </p:nvSpPr>
        <p:spPr>
          <a:xfrm>
            <a:off x="-404640" y="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2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751-9B8D-4AC3-8486-49CF6C81A39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-404640" y="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1800" y="1341360"/>
            <a:ext cx="87138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случаев смер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ц в возрасте до 65 лет (рекомендуемый показатель – 70,0 на 10 тыс. насе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нская смертность (рекомендуемый показатель – 12,0 на 100 тыс. живорожде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енческая смертность  (рекомендуемый показатель – 5,5 на 1000 родивших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и смертности детей и пациентов трудоспособного возраста во многом отражают состояние организации системы здравоохранения муниципального образования в це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мый в области комплекс лечебно-профилактических  мероприятий позволил добиться не только улучшения выявления разнообразной патологии, но и снижение общей смертности на 1000 населения – 17,3, против 17,5 в 2007 г. Продолжает уменьшаться показатель смертности в трудоспособном возрасте – 72,2 на 10 тыс. населения (2007 г. – 76,0). Значительно уменьшилась смертность в трудоспособном возрасте от несчастных случаев, травм, отравлений (с 24,3 до 21,5 на 10 тыс. насе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этом важно отметить, что деление показателя смертности для муниципальных учреждений здравоохранения на указанные группы (на дому – всего; в том числе: от инфаркта миокарда, от инсульта; в первые сутки в стационаре – всего) нерационально, так как ввиду малой численности населения районов, отмечаются значительные колебания этих показателей. Кроме того, не все муниципальные учреждения здравоохранения оказывают стационарную помощь этой категории пациентов из-за отсутствия возможностей и лишь направляют этих пациентов в специализированные отделения област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5" descr="24_f.gif"/>
          <p:cNvPicPr/>
          <p:nvPr/>
        </p:nvPicPr>
        <p:blipFill>
          <a:blip r:embed="rId1"/>
          <a:stretch/>
        </p:blipFill>
        <p:spPr>
          <a:xfrm>
            <a:off x="3309840" y="192888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егодовая занятость койки в муниципальных учреждениях здравоохранения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316-0EF4-4818-B4A8-4D36999644E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Схема 8" descr=""/>
          <p:cNvPicPr/>
          <p:nvPr/>
        </p:nvPicPr>
        <p:blipFill>
          <a:blip r:embed="rId2"/>
          <a:stretch/>
        </p:blipFill>
        <p:spPr>
          <a:xfrm>
            <a:off x="3090960" y="4376880"/>
            <a:ext cx="2676600" cy="420480"/>
          </a:xfrm>
          <a:prstGeom prst="rect">
            <a:avLst/>
          </a:prstGeom>
          <a:ln w="0">
            <a:noFill/>
          </a:ln>
        </p:spPr>
      </p:pic>
      <p:sp>
        <p:nvSpPr>
          <p:cNvPr id="302" name="Заголовок 1"/>
          <p:cNvSpPr/>
          <p:nvPr/>
        </p:nvSpPr>
        <p:spPr>
          <a:xfrm>
            <a:off x="-262080" y="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8880" y="5157720"/>
            <a:ext cx="90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уемый показатель – 326  койкод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571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коек в муниципальных учреждениях здравоохранения на 10000 человек населения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Номер слайда 10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CDF-70D9-4A13-BCE2-582A0E337FE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6" descr="25_f.gif"/>
          <p:cNvPicPr/>
          <p:nvPr/>
        </p:nvPicPr>
        <p:blipFill>
          <a:blip r:embed="rId1"/>
          <a:stretch/>
        </p:blipFill>
        <p:spPr>
          <a:xfrm>
            <a:off x="3262320" y="18003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07" name="Заголовок 1"/>
          <p:cNvSpPr/>
          <p:nvPr/>
        </p:nvSpPr>
        <p:spPr>
          <a:xfrm>
            <a:off x="-404640" y="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Схема 9" descr=""/>
          <p:cNvPicPr/>
          <p:nvPr/>
        </p:nvPicPr>
        <p:blipFill>
          <a:blip r:embed="rId2"/>
          <a:stretch/>
        </p:blipFill>
        <p:spPr>
          <a:xfrm>
            <a:off x="3230640" y="4022640"/>
            <a:ext cx="215892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88880" y="5013360"/>
            <a:ext cx="8928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уемое число коек в муниципальных учреждениях здравоохранения на 10000 человек населения – 45 шт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9" descr="p3_f.gif"/>
          <p:cNvPicPr/>
          <p:nvPr/>
        </p:nvPicPr>
        <p:blipFill>
          <a:blip r:embed="rId1"/>
          <a:stretch/>
        </p:blipFill>
        <p:spPr>
          <a:xfrm>
            <a:off x="468360" y="20001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9600" y="1071720"/>
            <a:ext cx="4643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е расходы на управление объемами амбулаторной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й помощ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омер слайда 12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8CB-CFE9-481B-A1CF-B90CFC4285E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Схема 4" descr=""/>
          <p:cNvPicPr/>
          <p:nvPr/>
        </p:nvPicPr>
        <p:blipFill>
          <a:blip r:embed="rId2"/>
          <a:stretch/>
        </p:blipFill>
        <p:spPr>
          <a:xfrm>
            <a:off x="506520" y="4297320"/>
            <a:ext cx="1736640" cy="414360"/>
          </a:xfrm>
          <a:prstGeom prst="rect">
            <a:avLst/>
          </a:prstGeom>
          <a:ln w="0">
            <a:noFill/>
          </a:ln>
        </p:spPr>
      </p:pic>
      <p:sp>
        <p:nvSpPr>
          <p:cNvPr id="314" name="Заголовок 1"/>
          <p:cNvSpPr/>
          <p:nvPr/>
        </p:nvSpPr>
        <p:spPr>
          <a:xfrm>
            <a:off x="5238720" y="102888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е расходы на управление объемами скорой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1"/>
          <p:cNvSpPr/>
          <p:nvPr/>
        </p:nvSpPr>
        <p:spPr>
          <a:xfrm>
            <a:off x="-404640" y="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14" descr="p4_f.gif"/>
          <p:cNvPicPr/>
          <p:nvPr/>
        </p:nvPicPr>
        <p:blipFill>
          <a:blip r:embed="rId3"/>
          <a:stretch/>
        </p:blipFill>
        <p:spPr>
          <a:xfrm>
            <a:off x="5738760" y="2011320"/>
            <a:ext cx="3333960" cy="2698920"/>
          </a:xfrm>
          <a:prstGeom prst="rect">
            <a:avLst/>
          </a:prstGeom>
          <a:ln w="0">
            <a:noFill/>
          </a:ln>
        </p:spPr>
      </p:pic>
      <p:pic>
        <p:nvPicPr>
          <p:cNvPr id="317" name="Схема 8" descr=""/>
          <p:cNvPicPr/>
          <p:nvPr/>
        </p:nvPicPr>
        <p:blipFill>
          <a:blip r:embed="rId4"/>
          <a:stretch/>
        </p:blipFill>
        <p:spPr>
          <a:xfrm>
            <a:off x="5803920" y="4290840"/>
            <a:ext cx="27972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665-6A11-43B2-A8F2-99EFC340068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-262080" y="0"/>
            <a:ext cx="2786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8880" y="1628640"/>
            <a:ext cx="9001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ценка качества образования – одно из самых актуальных  направлений системы образования Российской Федерации. Общая черта системных изменений в системе образования – нацеленность на обеспечение качества образования, совершенствование системы оценки качества  и его соответствие современными требованиям об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7600" y="857160"/>
            <a:ext cx="94107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детей в возрасте от 3 до 7 лет, получающих дошкольную образовательную услугу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(или)  услугу по их содержанию в  организациях различной  организационно-правовой формы и формы собственности, в общей численности детей от 3 до 7 лет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Номер слайда 8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1C4-7B95-4099-89B7-4608FF64137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5" descr="32_f.gif"/>
          <p:cNvPicPr/>
          <p:nvPr/>
        </p:nvPicPr>
        <p:blipFill>
          <a:blip r:embed="rId1"/>
          <a:stretch/>
        </p:blipFill>
        <p:spPr>
          <a:xfrm>
            <a:off x="468360" y="230040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24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Схема 6" descr=""/>
          <p:cNvPicPr/>
          <p:nvPr/>
        </p:nvPicPr>
        <p:blipFill>
          <a:blip r:embed="rId2"/>
          <a:stretch/>
        </p:blipFill>
        <p:spPr>
          <a:xfrm>
            <a:off x="371520" y="4657680"/>
            <a:ext cx="2017800" cy="785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73600" y="2336760"/>
            <a:ext cx="56163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школьное образование – начальная ступень образования детей. В 2008 году  в Области функционировали 216  дошкольных  образовательных учреждений,   из них  133  в городской местности и 83 – сельской.  Образовательные учреждения  посещали 26595 детей (21880 –  город, 4715 –  село). Охват дошкольным образованием детей от 3 до 7 лет по  Орловской области составляет 50,9%. Этот показатель соответствует общим закономерностям: он выше в городах и рабочих поселках и ниже на селе. Наиболее высокий коэффициент охвата городских детей отмечается в г. Мценске, сельских детей  — в Мценском районе, самый низкий по области охват дошкольным образованием — в Должанском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7" descr="35_f.gif"/>
          <p:cNvPicPr/>
          <p:nvPr/>
        </p:nvPicPr>
        <p:blipFill>
          <a:blip r:embed="rId1"/>
          <a:stretch/>
        </p:blipFill>
        <p:spPr>
          <a:xfrm>
            <a:off x="3309840" y="165744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2160" y="785520"/>
            <a:ext cx="90010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детей в возрасте от 5 до 7 лет, получающих дошкольные образовательные услуг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A04-366A-48FC-A040-C4563D82AE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Схема 6" descr=""/>
          <p:cNvPicPr/>
          <p:nvPr/>
        </p:nvPicPr>
        <p:blipFill>
          <a:blip r:embed="rId2"/>
          <a:stretch/>
        </p:blipFill>
        <p:spPr>
          <a:xfrm>
            <a:off x="3230640" y="3943440"/>
            <a:ext cx="2011320" cy="780840"/>
          </a:xfrm>
          <a:prstGeom prst="rect">
            <a:avLst/>
          </a:prstGeom>
          <a:ln w="0">
            <a:noFill/>
          </a:ln>
        </p:spPr>
      </p:pic>
      <p:sp>
        <p:nvSpPr>
          <p:cNvPr id="331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2880" y="4971960"/>
            <a:ext cx="92170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2008 году доля детей в возрасте  от 5 до 7 лет по Орловской области, получающих  дошкольные образовательные услуги,  составила – 43,8%. Данный показатель выше в городской местности (г. Ливны – 81,9%, г.Орел – 77,6%), ниже в сельской местности (Урицкий – 21%,  Сосковский – 27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7" descr="33_f.gif"/>
          <p:cNvPicPr/>
          <p:nvPr/>
        </p:nvPicPr>
        <p:blipFill>
          <a:blip r:embed="rId1"/>
          <a:stretch/>
        </p:blipFill>
        <p:spPr>
          <a:xfrm>
            <a:off x="468360" y="187164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7960" y="785520"/>
            <a:ext cx="9453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дельный вес детей в возрасте 5 - 18 лет, получающих  услуги по дополнительному образованию в организациях  различной организационно-правовой формы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 формы собственност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136F-B499-4FDA-87F3-5124A17661B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Схема 6" descr=""/>
          <p:cNvPicPr/>
          <p:nvPr/>
        </p:nvPicPr>
        <p:blipFill>
          <a:blip r:embed="rId2"/>
          <a:stretch/>
        </p:blipFill>
        <p:spPr>
          <a:xfrm>
            <a:off x="371520" y="4157640"/>
            <a:ext cx="2017800" cy="785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"/>
          <p:cNvSpPr/>
          <p:nvPr/>
        </p:nvSpPr>
        <p:spPr>
          <a:xfrm>
            <a:off x="3809880" y="331056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73600" y="2060640"/>
            <a:ext cx="5616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а дополнительного образования детей играет важную воспитательную роль, способствует развитию личностных качеств детей разного возраста. В 2008 году 89 учреждений дополнительного образования (из них 12 в сельской местности) посещали 54096 детей и подростков (из них 7807 в сельской местности). По средним показателям охват дополнительным образованием в Орловской области детей в возрасте 5-18 лет составляет 60,5%.  Охват учащихся дополнительным образованием на базе учреждений дополнительного образования и общеобразовательных учреждений свидетельствуют о том, что на селе дополнительное образование более активно осуществляется на базе школ, в городе – на базе профильных учреждений дополнительного образ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040" y="213840"/>
            <a:ext cx="89154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словные обозначения сокращений названий муниципальных образований Орловской области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906-5624-4BBE-B8F6-B27F50273AD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2" descr=""/>
          <p:cNvPicPr/>
          <p:nvPr/>
        </p:nvPicPr>
        <p:blipFill>
          <a:blip r:embed="rId1"/>
          <a:stretch/>
        </p:blipFill>
        <p:spPr>
          <a:xfrm>
            <a:off x="755640" y="1249200"/>
            <a:ext cx="91566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6" descr="37_f.gif"/>
          <p:cNvPicPr/>
          <p:nvPr/>
        </p:nvPicPr>
        <p:blipFill>
          <a:blip r:embed="rId1"/>
          <a:stretch/>
        </p:blipFill>
        <p:spPr>
          <a:xfrm>
            <a:off x="468360" y="22287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8000" y="928440"/>
            <a:ext cx="81435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дельный вес лиц, сдавших единый государственный экзамен, в числе выпускников  общеобразовательных   муниципальных учреждений, участвовавших в едином государственном экзамене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Номер слайда 8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232-2E8B-4F6D-889F-ACA47C051E4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Схема 5" descr=""/>
          <p:cNvPicPr/>
          <p:nvPr/>
        </p:nvPicPr>
        <p:blipFill>
          <a:blip r:embed="rId2"/>
          <a:stretch/>
        </p:blipFill>
        <p:spPr>
          <a:xfrm>
            <a:off x="444600" y="4516560"/>
            <a:ext cx="2012760" cy="78084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73600" y="2060640"/>
            <a:ext cx="55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ним из важных элементов оценки качества образования является государственная (итоговая) аттестация выпускников общеобразовательных школ в форме ЕГЭ.  По русскому языку охват выпускников составил  96,2% от всех  выпускников, по математике – 94,5%. Охват учащихся, проходивших государственную (итоговую) аттестацию в форме ЕГЭ по предметам по выбору, от общего количества выпускников составил: по химии – 0,8%, физике – 0,8%, обществознанию – 1,6%, биологии – 1,6%. Результаты ЕГЭ в 2008 году оказались  выше, чем в 2007 году. В 2008 году увеличилось вдвое число выпускников, набравших 100 баллов по общеобразовательным предметам.  Среди них участники олимпиад регионального и Всероссийского уровня. К положительным результатам можно отнести и уменьшение количества участников ЕГЭ, набравших 0 баллов (2007 год – 76 человек; 2008 год – 31). Это свидетельствует о серьезной подготовительной работе к государственной (итоговой) аттестации в форме ЕГ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6" descr="39_f.gif"/>
          <p:cNvPicPr/>
          <p:nvPr/>
        </p:nvPicPr>
        <p:blipFill>
          <a:blip r:embed="rId1"/>
          <a:stretch/>
        </p:blipFill>
        <p:spPr>
          <a:xfrm>
            <a:off x="468360" y="24289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7"/>
          <p:cNvSpPr/>
          <p:nvPr/>
        </p:nvSpPr>
        <p:spPr>
          <a:xfrm>
            <a:off x="452520" y="928800"/>
            <a:ext cx="900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я муниципальных общеобразовательных учреждений с числом уча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 3-й ступени обучения (10 - 11 классы) менее 150 человек в городской  мес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менее 84 человек в сельской местности в общем чи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униципальных общеобразовательных учрежд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Схема 5" descr=""/>
          <p:cNvPicPr/>
          <p:nvPr/>
        </p:nvPicPr>
        <p:blipFill>
          <a:blip r:embed="rId2"/>
          <a:stretch/>
        </p:blipFill>
        <p:spPr>
          <a:xfrm>
            <a:off x="444600" y="4711680"/>
            <a:ext cx="2012760" cy="78732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10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1B7-4DA8-47F2-A6A8-7B604352F33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73600" y="2349360"/>
            <a:ext cx="554328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ачало 2007-2008 учебного года в области действовало 577 дневных общеобразовательных учреждений, в которых обучалось 75,8 тыс. учащихся. Из н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государственных  общеобразовательных учреждений –  5, что составляет 0,8% от общего числа (численность учащихся в них – 0,4 тыс. человек, или 0,5% от общего числа обучающихся  в дневных общеобразовательных учреждениях). По сравнению с 2005-2006 учебным годом число дневных  общеобразовательных учреждений сократилось на 2,5%, численность обучающихся в них – на 11,4% . Ежегодное сокращение числа дневных общеобразовательных учреждений происходит, в основном, за счет закрытия школ с низкой наполняемостью. 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ых общеобразовательных учреждений с числом учащихся на 3 ступени обучения (10-11 классы) менее 150 человек в городской местности и 84 человек в сельской местности в общем числе муниципальных образовательных учреждений составила 86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4"/>
          <p:cNvSpPr/>
          <p:nvPr/>
        </p:nvSpPr>
        <p:spPr>
          <a:xfrm>
            <a:off x="166680" y="928800"/>
            <a:ext cx="95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Численность учащихся, приходящихся на одного работающего в муниципальных общеобразовательных учреждения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Схема 6" descr=""/>
          <p:cNvPicPr/>
          <p:nvPr/>
        </p:nvPicPr>
        <p:blipFill>
          <a:blip r:embed="rId1"/>
          <a:stretch/>
        </p:blipFill>
        <p:spPr>
          <a:xfrm>
            <a:off x="3230640" y="4309920"/>
            <a:ext cx="2444760" cy="779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40-а_f.gif"/>
          <p:cNvPicPr/>
          <p:nvPr/>
        </p:nvPicPr>
        <p:blipFill>
          <a:blip r:embed="rId2"/>
          <a:stretch/>
        </p:blipFill>
        <p:spPr>
          <a:xfrm>
            <a:off x="3309840" y="207180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355" name="Номер слайда 8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FA1-E7B5-40C4-97DE-DCBE28B3140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3" descr="40-в_f.gif"/>
          <p:cNvPicPr/>
          <p:nvPr/>
        </p:nvPicPr>
        <p:blipFill>
          <a:blip r:embed="rId1"/>
          <a:stretch/>
        </p:blipFill>
        <p:spPr>
          <a:xfrm>
            <a:off x="5667480" y="1984320"/>
            <a:ext cx="3333600" cy="2700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40-б_f.gif"/>
          <p:cNvPicPr/>
          <p:nvPr/>
        </p:nvPicPr>
        <p:blipFill>
          <a:blip r:embed="rId2"/>
          <a:stretch/>
        </p:blipFill>
        <p:spPr>
          <a:xfrm>
            <a:off x="468360" y="1979640"/>
            <a:ext cx="3333600" cy="26985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9600" y="1213920"/>
            <a:ext cx="36432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енность учащихся, приходящихся на одного учителя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Номер слайда 14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7F0-990F-4389-9A44-94732C7E1B2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Заголовок 1"/>
          <p:cNvSpPr/>
          <p:nvPr/>
        </p:nvSpPr>
        <p:spPr>
          <a:xfrm>
            <a:off x="4524480" y="1039680"/>
            <a:ext cx="5381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Численность учащихся, приходящихс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го прочего работающего в муниципальных общеобразовательных учрежд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Схема 8" descr=""/>
          <p:cNvPicPr/>
          <p:nvPr/>
        </p:nvPicPr>
        <p:blipFill>
          <a:blip r:embed="rId3"/>
          <a:stretch/>
        </p:blipFill>
        <p:spPr>
          <a:xfrm>
            <a:off x="304920" y="4243320"/>
            <a:ext cx="2651040" cy="779400"/>
          </a:xfrm>
          <a:prstGeom prst="rect">
            <a:avLst/>
          </a:prstGeom>
          <a:ln w="0">
            <a:noFill/>
          </a:ln>
        </p:spPr>
      </p:pic>
      <p:pic>
        <p:nvPicPr>
          <p:cNvPr id="363" name="Схема 9" descr=""/>
          <p:cNvPicPr/>
          <p:nvPr/>
        </p:nvPicPr>
        <p:blipFill>
          <a:blip r:embed="rId4"/>
          <a:stretch/>
        </p:blipFill>
        <p:spPr>
          <a:xfrm>
            <a:off x="5450040" y="4237200"/>
            <a:ext cx="2724120" cy="785520"/>
          </a:xfrm>
          <a:prstGeom prst="rect">
            <a:avLst/>
          </a:prstGeom>
          <a:ln w="0">
            <a:noFill/>
          </a:ln>
        </p:spPr>
      </p:pic>
      <p:sp>
        <p:nvSpPr>
          <p:cNvPr id="364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880" y="5229360"/>
            <a:ext cx="9001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2008 году в среднем по Орловской области на одного учителя приходится  в городских округах 12 обучающихся, в муниципальных округах – 6. На одного прочего работающего – в среднем 5 человек. Соотношение педагогического и прочего работающего персонала,  в среднем, по области составляет  54% и 46% соответственно, что ведет к неэффективным расхо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12" descr="41-а_f.gif"/>
          <p:cNvPicPr/>
          <p:nvPr/>
        </p:nvPicPr>
        <p:blipFill>
          <a:blip r:embed="rId1"/>
          <a:stretch/>
        </p:blipFill>
        <p:spPr>
          <a:xfrm>
            <a:off x="468360" y="176040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9"/>
          <p:cNvSpPr/>
          <p:nvPr/>
        </p:nvSpPr>
        <p:spPr>
          <a:xfrm>
            <a:off x="452520" y="1000080"/>
            <a:ext cx="90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наполняемость классов в муниципальных  общеобразовательных учрежд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23800" y="1428840"/>
            <a:ext cx="392904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ских поселениях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Номер слайда 14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D11-BBCA-4850-A597-1AD0EAFA7AB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Схема 5" descr=""/>
          <p:cNvPicPr/>
          <p:nvPr/>
        </p:nvPicPr>
        <p:blipFill>
          <a:blip r:embed="rId2"/>
          <a:stretch/>
        </p:blipFill>
        <p:spPr>
          <a:xfrm>
            <a:off x="158760" y="3943440"/>
            <a:ext cx="3084480" cy="780840"/>
          </a:xfrm>
          <a:prstGeom prst="rect">
            <a:avLst/>
          </a:prstGeom>
          <a:ln w="0">
            <a:noFill/>
          </a:ln>
        </p:spPr>
      </p:pic>
      <p:sp>
        <p:nvSpPr>
          <p:cNvPr id="371" name="Заголовок 1"/>
          <p:cNvSpPr/>
          <p:nvPr/>
        </p:nvSpPr>
        <p:spPr>
          <a:xfrm>
            <a:off x="4881600" y="1500120"/>
            <a:ext cx="4429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сельской мес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Схема 10" descr=""/>
          <p:cNvPicPr/>
          <p:nvPr/>
        </p:nvPicPr>
        <p:blipFill>
          <a:blip r:embed="rId3"/>
          <a:stretch/>
        </p:blipFill>
        <p:spPr>
          <a:xfrm>
            <a:off x="5589720" y="3949560"/>
            <a:ext cx="2225520" cy="7812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1" descr="41-б_f.gif"/>
          <p:cNvPicPr/>
          <p:nvPr/>
        </p:nvPicPr>
        <p:blipFill>
          <a:blip r:embed="rId4"/>
          <a:stretch/>
        </p:blipFill>
        <p:spPr>
          <a:xfrm>
            <a:off x="5738760" y="176040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8880" y="4724280"/>
            <a:ext cx="8928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показывает, что в нашей области средняя численность обучающихся в государственных и муниципальных дневных общеобразовательных учреждениях, расположенных в городской и сельской местности, имеет общую тенденцию к снижению. По Орловской области  наполняемость класса в муниципальных  общеобразовательных школах  установлена  на уровне в городе – 23 человека, на селе – 6 человек. Средняя наполняемость классов в школа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ьской местности колеблется от 8 (Орловский район) до 4 (Шаблыкинский район). По городской местности: 22,8 – г.Болхов, 15,6 – Хотынец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держание школ и классов низкой наполняемости приводит к увеличению расходов муниципальных бюджетов на 1 учащего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7600" y="714240"/>
            <a:ext cx="9410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бъем неэффективных расходов в связи с низкой наполняемостью классов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Номер слайда 1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5E7-09A7-4A9A-87BC-9DD23E68EDA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452520" y="18572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общеобразовательных учреждениях в городских посел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9"/>
          <p:cNvSpPr/>
          <p:nvPr/>
        </p:nvSpPr>
        <p:spPr>
          <a:xfrm>
            <a:off x="5167440" y="18572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в общеобразовательных учреждениях в сельских посел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Схема 11" descr=""/>
          <p:cNvPicPr/>
          <p:nvPr/>
        </p:nvPicPr>
        <p:blipFill>
          <a:blip r:embed="rId1"/>
          <a:stretch/>
        </p:blipFill>
        <p:spPr>
          <a:xfrm>
            <a:off x="231840" y="4748040"/>
            <a:ext cx="2944800" cy="963720"/>
          </a:xfrm>
          <a:prstGeom prst="rect">
            <a:avLst/>
          </a:prstGeom>
          <a:ln w="0">
            <a:noFill/>
          </a:ln>
        </p:spPr>
      </p:pic>
      <p:pic>
        <p:nvPicPr>
          <p:cNvPr id="381" name="Схема 12" descr=""/>
          <p:cNvPicPr/>
          <p:nvPr/>
        </p:nvPicPr>
        <p:blipFill>
          <a:blip r:embed="rId2"/>
          <a:stretch/>
        </p:blipFill>
        <p:spPr>
          <a:xfrm>
            <a:off x="5230800" y="4737240"/>
            <a:ext cx="2797200" cy="9619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8" descr="sel_f.gif"/>
          <p:cNvPicPr/>
          <p:nvPr/>
        </p:nvPicPr>
        <p:blipFill>
          <a:blip r:embed="rId3"/>
          <a:stretch/>
        </p:blipFill>
        <p:spPr>
          <a:xfrm>
            <a:off x="5381640" y="250020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83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66560" y="2490840"/>
            <a:ext cx="33544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23440" y="571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й объем неэффективных расходов на управление кадровыми ресурсам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Содержимое 3" descr="p1+p2.gif"/>
          <p:cNvPicPr/>
          <p:nvPr/>
        </p:nvPicPr>
        <p:blipFill>
          <a:blip r:embed="rId1"/>
          <a:stretch/>
        </p:blipFill>
        <p:spPr>
          <a:xfrm>
            <a:off x="468360" y="17287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87" name="Номер слайда 5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ECE-5D54-4448-A686-B857E94D4A6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Схема 6" descr=""/>
          <p:cNvPicPr/>
          <p:nvPr/>
        </p:nvPicPr>
        <p:blipFill>
          <a:blip r:embed="rId2"/>
          <a:stretch/>
        </p:blipFill>
        <p:spPr>
          <a:xfrm>
            <a:off x="231840" y="3949560"/>
            <a:ext cx="2871720" cy="781200"/>
          </a:xfrm>
          <a:prstGeom prst="rect">
            <a:avLst/>
          </a:prstGeom>
          <a:ln w="0">
            <a:noFill/>
          </a:ln>
        </p:spPr>
      </p:pic>
      <p:sp>
        <p:nvSpPr>
          <p:cNvPr id="389" name="Заголовок 1"/>
          <p:cNvSpPr/>
          <p:nvPr/>
        </p:nvSpPr>
        <p:spPr>
          <a:xfrm>
            <a:off x="-619200" y="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44880" y="1989000"/>
            <a:ext cx="554508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м неэффективных расходов, связанных с низкой наполняемостью классов, в 2008 году в области составил 5,7 млн. руб., неэффективные расходы на управление кадрами в среднем по области составили  32,8 млн.руб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ствующий механизм оплаты труда педагога по единой тарифной сетке   в 2008 году  не дает возможности стимулирования образовательной  и воспитательной    деятельности, а система доплат (за работу в селе, дополнительную внешкольную нагрузку, подготовку победителей олимпиад, доплаты молодым специалистам) фактически не учитывает такие важные характеристики педагога как стаж работы, уровень квалификации, качество образовательных услуг, ученые степени и з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520" y="4869000"/>
            <a:ext cx="89294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нижения неэффективных расходов в 2008 году была проведена работа  по переходу  на нормативно-подушевое финансирование, внедрение отраслевой системы оплаты труда, основанной на объеме и качестве предоставляемых услуг с 01.01.2009 года. Ведется работа по  повышению качества кадрового резерва, созданию мотивации у руководителя и коллектива на сокращение неэффективных расходов, повышение качества и объема ока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ваемых усл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440" y="857160"/>
            <a:ext cx="8929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дельный вес населения,  систематически занимающегося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й культурой и спортом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F01E-9A5F-4EA6-89B9-0D0D70114EB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3809880" y="2243160"/>
            <a:ext cx="564372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м Правительства Российской Федерации от 11 января 2006 г. №7 утверждена федеральная целевая программа «Развитие физической культуры и спорта в Российской Федерации на 2006-2015 го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п. II Паспорта Программы (направление «массовый спорт») предполагается увеличить показатель «доля граждан Российской Федерации, систематически занимающихся физической культурой и спортом, в том числе учащихся (обучающихся, воспитанников и студентов), женщин, инвалидов» с 11,6 процента в 2004 году до 30 процентов в 2015 году, то есть ежегодный прирост составит 1,5 -2 проц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-262080" y="142920"/>
            <a:ext cx="4857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 культура и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7" descr="spor_f.gif"/>
          <p:cNvPicPr/>
          <p:nvPr/>
        </p:nvPicPr>
        <p:blipFill>
          <a:blip r:embed="rId1"/>
          <a:stretch/>
        </p:blipFill>
        <p:spPr>
          <a:xfrm>
            <a:off x="468360" y="17287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10"/>
          <p:cNvSpPr/>
          <p:nvPr/>
        </p:nvSpPr>
        <p:spPr>
          <a:xfrm>
            <a:off x="452520" y="4869000"/>
            <a:ext cx="90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ам развития целевых индикаторов  федеральной целевой программы соответствуют показатели Дмитровского района Орловской области, которые берутся за основу с оценкой «отличн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Схема 8" descr=""/>
          <p:cNvPicPr/>
          <p:nvPr/>
        </p:nvPicPr>
        <p:blipFill>
          <a:blip r:embed="rId2"/>
          <a:stretch/>
        </p:blipFill>
        <p:spPr>
          <a:xfrm>
            <a:off x="444600" y="4017960"/>
            <a:ext cx="2158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4" descr="osn_f.gif"/>
          <p:cNvPicPr/>
          <p:nvPr/>
        </p:nvPicPr>
        <p:blipFill>
          <a:blip r:embed="rId1"/>
          <a:stretch/>
        </p:blipFill>
        <p:spPr>
          <a:xfrm>
            <a:off x="468360" y="28717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4429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многоквартирных домов,  в которых собственники помещений  выбрали и реализуют управление товариществом собственников жилья либо жилищным кооперативом или иным специализированным потребительским кооперативом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Номер слайда 1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66A5-7EC2-4257-A461-0977DF46C9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5"/>
          <p:cNvSpPr/>
          <p:nvPr/>
        </p:nvSpPr>
        <p:spPr>
          <a:xfrm>
            <a:off x="237960" y="171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Жилищно-коммунальное хозяйство и жилищная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Схема 7" descr=""/>
          <p:cNvPicPr/>
          <p:nvPr/>
        </p:nvPicPr>
        <p:blipFill>
          <a:blip r:embed="rId2"/>
          <a:stretch/>
        </p:blipFill>
        <p:spPr>
          <a:xfrm>
            <a:off x="444600" y="5162400"/>
            <a:ext cx="2012760" cy="4208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9"/>
          <p:cNvSpPr/>
          <p:nvPr/>
        </p:nvSpPr>
        <p:spPr>
          <a:xfrm>
            <a:off x="5167440" y="857160"/>
            <a:ext cx="428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йтинг районов по данным, предоставленным в докладах глав МО по дополнительным показателям эффективности возглавляемого ими органа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Схема 11" descr=""/>
          <p:cNvPicPr/>
          <p:nvPr/>
        </p:nvPicPr>
        <p:blipFill>
          <a:blip r:embed="rId3"/>
          <a:stretch/>
        </p:blipFill>
        <p:spPr>
          <a:xfrm>
            <a:off x="5376960" y="5237280"/>
            <a:ext cx="3224160" cy="7794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8" descr="dop_f.gif"/>
          <p:cNvPicPr/>
          <p:nvPr/>
        </p:nvPicPr>
        <p:blipFill>
          <a:blip r:embed="rId4"/>
          <a:stretch/>
        </p:blipFill>
        <p:spPr>
          <a:xfrm>
            <a:off x="5619600" y="2871720"/>
            <a:ext cx="33339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166680" y="933120"/>
            <a:ext cx="900108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рейтинговых таблиц проводилось на основании данных, представленных муниципальными образованиями Орловской области по установленной форме. Представленные данные тщательно анализировались управлением жилищно-коммунального хозяйства, после чего были определенны основные показатели ранж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ценка муниципальных образований проводилас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о дополнительным параметр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 – более 5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2 – более 1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3 – более 1000 рублей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4 – более 5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6 – более 2 тысяч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7 – более 10 шт.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8 – более 0,1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9 – более 50%  3 бал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0 – более 5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1 – более 5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2 – менее 15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3 – 10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4 – более 3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5 – менее 15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у № 17 – более 50% 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ам № 16, 18, 19,20 – если имеется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унктам № 21, 22, 23 – если не имеется 1 б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61C-D0CE-4332-88D5-CBD8E14AA5E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"/>
          <p:cNvSpPr/>
          <p:nvPr/>
        </p:nvSpPr>
        <p:spPr>
          <a:xfrm>
            <a:off x="4952880" y="2106720"/>
            <a:ext cx="44640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основным параметр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места в рейтингов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е заняли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я, в которых большая доля многоквартирных домов, управляемых товарищество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иков жилья либ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ым кооперативом или ины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ализированным потребительским кооперативом с наибольшим  процентом (более 10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237960" y="171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Жилищно-коммунальное хозяйство и жилищная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5040" y="71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ведение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3C5-CBE9-473A-84D2-756448198C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0520" y="1125360"/>
            <a:ext cx="892944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ленный итоговый доклад Орловской области об оценке эффективности деятельности муниципальных образований разработан во исполнение Указа Президента Российской Федерации от 28 апреля 2008 года № 607 «Об оценке эффективности деятельности органов местного самоуправления городских округов и муниципальных район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оставления доклада был осуществлен мониторинг эффективности деятельности органов местного самоуправления в соответствии с перечнем показателей для оценки эффективности деятельности органов местного самоуправления городских округов и муниципальных районов, утвержденным Указом Президента Российской Федерации от 28 апреля 2008 года № 607, перечнем дополнительных показателей для оценки деятельности органов местного самоуправления городских округов и муниципальных районов, в том числе показателей, необходимых для расчета неэффективных расходов местных бюджетов согласно методике, утвержденной распоряжением Правительства Российской Федерации от 11 сентября 2008 года № 1313-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целях проведения комплексного анализа и расчета эффективности деятельности органов местного самоуправления мониторинг осуществлял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троительство и 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ельское хозяйств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ровень доходов насе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равоохран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физическая культура и 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лищно-коммунальное хозяйство и жилищная полит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рганизация муниципального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8" descr="jkh_f.gif"/>
          <p:cNvPicPr/>
          <p:nvPr/>
        </p:nvPicPr>
        <p:blipFill>
          <a:blip r:embed="rId1"/>
          <a:stretch/>
        </p:blipFill>
        <p:spPr>
          <a:xfrm>
            <a:off x="595440" y="15145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4024440" y="1428840"/>
            <a:ext cx="542916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эффективным расходованием бюджетных средств в сфере жилищно-коммунального хозяйства является направление бюджетных средств  на компенсацию предприятиям жилищно-коммунального хозяйства разницы между экономически-обоснованными тарифами и тарифами, установленными для населения, и на покрытие убытков предприятий жилищно-коммунального хозяйства, возникших в связи с применением регулируемых цен на жилищно-коммунальны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чет доли неэффективных расходов в области жилищно-коммунального хозяйства определяется отношением расходов бюджета городского округа (муниципального района) на компенсацию предприятиям жилищно-коммунального хозяйства разницы между экономически обоснованными тарифами  и тарифами, установленными для населения  и на покрытие убытков предприятий жилищно-коммунального хозяйства , возникших в связи с применением регулируемых цен на жилищно-коммунальные услуги к общему объему расходов бюджета городского округа (муниципального района) на 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Схема 6" descr=""/>
          <p:cNvPicPr/>
          <p:nvPr/>
        </p:nvPicPr>
        <p:blipFill>
          <a:blip r:embed="rId2"/>
          <a:stretch/>
        </p:blipFill>
        <p:spPr>
          <a:xfrm>
            <a:off x="231840" y="3809880"/>
            <a:ext cx="3297240" cy="4143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166680" y="947880"/>
            <a:ext cx="94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я неэффективных расходов в области жилищно-коммунального хозя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A09-C8CF-4AD2-BA44-62313650FAE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1"/>
          <p:cNvSpPr/>
          <p:nvPr/>
        </p:nvSpPr>
        <p:spPr>
          <a:xfrm>
            <a:off x="237960" y="171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Жилищно-коммунальное хозяйство и жилищная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7" descr="56_f.gif"/>
          <p:cNvPicPr/>
          <p:nvPr/>
        </p:nvPicPr>
        <p:blipFill>
          <a:blip r:embed="rId1"/>
          <a:stretch/>
        </p:blipFill>
        <p:spPr>
          <a:xfrm>
            <a:off x="3238560" y="1714680"/>
            <a:ext cx="3333600" cy="2700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2160" y="928800"/>
            <a:ext cx="90010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муниципальных автономных учреждений от общего числа муниципальных учреждений (бюджетных и автономных) в городском округе (муниципальном районе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28F-1D7F-402B-87E4-F9E97F346B8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Схема 5" descr=""/>
          <p:cNvPicPr/>
          <p:nvPr/>
        </p:nvPicPr>
        <p:blipFill>
          <a:blip r:embed="rId2"/>
          <a:stretch/>
        </p:blipFill>
        <p:spPr>
          <a:xfrm>
            <a:off x="3303720" y="3949560"/>
            <a:ext cx="1658880" cy="427320"/>
          </a:xfrm>
          <a:prstGeom prst="rect">
            <a:avLst/>
          </a:prstGeom>
          <a:ln w="0">
            <a:noFill/>
          </a:ln>
        </p:spPr>
      </p:pic>
      <p:sp>
        <p:nvSpPr>
          <p:cNvPr id="421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4520" y="4581360"/>
            <a:ext cx="9217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ируя значения показателя по муниципальным районам и городским округам Орловской област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ля муниципальных автономных учреждений от общего числа муниципальных учреждений (бюджетных и автономных) в городском округе (муниципальном районе)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ффективн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но признать деятельность органов местного самоуправления Кромского района и г.Ливны, где доля автономных учреждений от общего числа муниципальных учреждений составляет соответственно 100%  и  1,4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тальных районах и городских округах муниципальные автономные учреждения не созданы, что указывает на низкую эффективность  их деятельности в данной сфере муниципального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91764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основных фондов организаций муниципальной формы собственности, находящихся в стадии банкротства, в общей стоимости основных фондов организаций муниципальной формы собственности (на конец года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Номер слайда 8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B83-9A6A-4FDD-A921-873B71C103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7" descr="60_f_V2.gif"/>
          <p:cNvPicPr/>
          <p:nvPr/>
        </p:nvPicPr>
        <p:blipFill>
          <a:blip r:embed="rId1"/>
          <a:stretch/>
        </p:blipFill>
        <p:spPr>
          <a:xfrm>
            <a:off x="3281400" y="1785960"/>
            <a:ext cx="3333600" cy="2700360"/>
          </a:xfrm>
          <a:prstGeom prst="rect">
            <a:avLst/>
          </a:prstGeom>
          <a:ln w="0">
            <a:noFill/>
          </a:ln>
        </p:spPr>
      </p:pic>
      <p:pic>
        <p:nvPicPr>
          <p:cNvPr id="427" name="Схема 6" descr=""/>
          <p:cNvPicPr/>
          <p:nvPr/>
        </p:nvPicPr>
        <p:blipFill>
          <a:blip r:embed="rId2"/>
          <a:stretch/>
        </p:blipFill>
        <p:spPr>
          <a:xfrm>
            <a:off x="3517920" y="4170240"/>
            <a:ext cx="1438200" cy="414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88880" y="4659480"/>
            <a:ext cx="900108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ируя значения показателя по муниципальным районам и городским округам Орловской област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ля основных фондов организаций муниципальной формы собственности, находящихся в стадии банкротства, в общей стоимости основных фондов организаций муниципальной формы собственности»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эффективн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но признать деятельность органов местного самоуправл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сильско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саковского и Свердловского районов, где доля основных фондов организаций муниципальной формы собственности, находящихся в стадии банкротства, в общей стоимости основных фондов организаций муниципальной формы собственности составляет соответственно 68, 17,5 и 11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6" descr="57_f.gif"/>
          <p:cNvPicPr/>
          <p:nvPr/>
        </p:nvPicPr>
        <p:blipFill>
          <a:blip r:embed="rId1"/>
          <a:stretch/>
        </p:blipFill>
        <p:spPr>
          <a:xfrm>
            <a:off x="3309840" y="215748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2160" y="100008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собственных доходов  местного бюджета (за исключением безвозмездных поступлений, поступлений налоговых доходов по дополнительным нормативам отчислений и доходов от платных услуг, оказываемых муниципальными бюджетными учреждениями) в общем объеме доходов бюджета муниципального образования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E6BF-3487-4DF1-B491-D696E81FA2E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Схема 8" descr=""/>
          <p:cNvPicPr/>
          <p:nvPr/>
        </p:nvPicPr>
        <p:blipFill>
          <a:blip r:embed="rId2"/>
          <a:stretch/>
        </p:blipFill>
        <p:spPr>
          <a:xfrm>
            <a:off x="3230640" y="4370400"/>
            <a:ext cx="2232000" cy="787320"/>
          </a:xfrm>
          <a:prstGeom prst="rect">
            <a:avLst/>
          </a:prstGeom>
          <a:ln w="0">
            <a:noFill/>
          </a:ln>
        </p:spPr>
      </p:pic>
      <p:sp>
        <p:nvSpPr>
          <p:cNvPr id="433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8880" y="5229360"/>
            <a:ext cx="900108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е показатели характеризуют зависимость доходов бюджета от перечислений из областного бюджета. Чем ниже показатель, тем выше риск неисполнения полномочий органов местного самоуправления, определенных Законом Российской Федерации №131-ФЗ «Об основных принципах организации местного самоуправления в Российской Федерации», а также риск несбалансированности бюджета в случае выпадения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61_f.gif"/>
          <p:cNvPicPr/>
          <p:nvPr/>
        </p:nvPicPr>
        <p:blipFill>
          <a:blip r:embed="rId1"/>
          <a:stretch/>
        </p:blipFill>
        <p:spPr>
          <a:xfrm>
            <a:off x="3166920" y="168912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856800"/>
            <a:ext cx="8915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кредиторской задолженности по оплате труда (включая начисления на оплату труда)  муниципальных бюджетных учреждений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2A0F-3A12-48A9-8D7D-514F44C7335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Схема 6" descr=""/>
          <p:cNvPicPr/>
          <p:nvPr/>
        </p:nvPicPr>
        <p:blipFill>
          <a:blip r:embed="rId2"/>
          <a:stretch/>
        </p:blipFill>
        <p:spPr>
          <a:xfrm>
            <a:off x="3164040" y="3998880"/>
            <a:ext cx="2225520" cy="596880"/>
          </a:xfrm>
          <a:prstGeom prst="rect">
            <a:avLst/>
          </a:prstGeom>
          <a:ln w="0">
            <a:noFill/>
          </a:ln>
        </p:spPr>
      </p:pic>
      <p:sp>
        <p:nvSpPr>
          <p:cNvPr id="439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8880" y="5013360"/>
            <a:ext cx="900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й показатель оценивает уровень выполнения органами местного самоуправления обязательств по оплате труда работников бюджетных учреждений и отчислениям от выплат по оплате труда во внебюджетные фонды. Чем выше показатель, тем хуже орган местного самоуправления исполняет указанные обязатель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6" descr="63_f.gif"/>
          <p:cNvPicPr/>
          <p:nvPr/>
        </p:nvPicPr>
        <p:blipFill>
          <a:blip r:embed="rId1"/>
          <a:stretch/>
        </p:blipFill>
        <p:spPr>
          <a:xfrm>
            <a:off x="3309840" y="1428840"/>
            <a:ext cx="3333960" cy="27003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6200" y="928800"/>
            <a:ext cx="8915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ие бюджета на 3 года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C8F-0C47-46B7-81B0-83C7168E8D1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Схема 7" descr=""/>
          <p:cNvPicPr/>
          <p:nvPr/>
        </p:nvPicPr>
        <p:blipFill>
          <a:blip r:embed="rId2"/>
          <a:stretch/>
        </p:blipFill>
        <p:spPr>
          <a:xfrm>
            <a:off x="3230640" y="3736800"/>
            <a:ext cx="1944720" cy="420840"/>
          </a:xfrm>
          <a:prstGeom prst="rect">
            <a:avLst/>
          </a:prstGeom>
          <a:ln w="0">
            <a:noFill/>
          </a:ln>
        </p:spPr>
      </p:pic>
      <p:sp>
        <p:nvSpPr>
          <p:cNvPr id="445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8880" y="4437000"/>
            <a:ext cx="9001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ь характеризует использование органом местного самоуправления среднесрочного финансового планирования с целью повышения эффективности бюджетных расходов, создания возможностей для оптимальной реализации долгосрочных проектов (программ),  сокращения неоправданных и резких изменений бюджетной политики, повышения информированности населения муниципального образования о финансовом обеспечении приоритетов развития террит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униципальные образования области приняли бюджеты на 2009 год и на плановый период 2010 и 2011 годов за исключением поселений Троснянского рай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6BD-FAF3-4B31-9DF6-A827564829A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4"/>
          <p:cNvSpPr/>
          <p:nvPr/>
        </p:nvSpPr>
        <p:spPr>
          <a:xfrm>
            <a:off x="452520" y="928800"/>
            <a:ext cx="435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я расходов бюджета городского округа(муниципального района) на содержание органов местного самоуправления в общем объеме расходов бюджета, признанных неэффективными расходами в сфере организации муниципальн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5" descr="d.gif"/>
          <p:cNvPicPr/>
          <p:nvPr/>
        </p:nvPicPr>
        <p:blipFill>
          <a:blip r:embed="rId1"/>
          <a:stretch/>
        </p:blipFill>
        <p:spPr>
          <a:xfrm>
            <a:off x="738360" y="292896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450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Схема 7" descr=""/>
          <p:cNvPicPr/>
          <p:nvPr/>
        </p:nvPicPr>
        <p:blipFill>
          <a:blip r:embed="rId2"/>
          <a:stretch/>
        </p:blipFill>
        <p:spPr>
          <a:xfrm>
            <a:off x="731880" y="5310360"/>
            <a:ext cx="2084400" cy="7794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5167440" y="933480"/>
            <a:ext cx="392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ля неэффетивно-расходуемых средств в сфере организации муниципального управления в общем объеме расходов на содержание органов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9" descr="d1.gif"/>
          <p:cNvPicPr/>
          <p:nvPr/>
        </p:nvPicPr>
        <p:blipFill>
          <a:blip r:embed="rId3"/>
          <a:stretch/>
        </p:blipFill>
        <p:spPr>
          <a:xfrm>
            <a:off x="5524560" y="2928960"/>
            <a:ext cx="3333600" cy="2700360"/>
          </a:xfrm>
          <a:prstGeom prst="rect">
            <a:avLst/>
          </a:prstGeom>
          <a:ln w="0">
            <a:noFill/>
          </a:ln>
        </p:spPr>
      </p:pic>
      <p:pic>
        <p:nvPicPr>
          <p:cNvPr id="454" name="Схема 10" descr=""/>
          <p:cNvPicPr/>
          <p:nvPr/>
        </p:nvPicPr>
        <p:blipFill>
          <a:blip r:embed="rId4"/>
          <a:stretch/>
        </p:blipFill>
        <p:spPr>
          <a:xfrm>
            <a:off x="5516640" y="5303880"/>
            <a:ext cx="2011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2160" y="84600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емпы роста среднегодовой численности населения (2008/2007гг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0D77-FAE8-4805-8647-AB8F6C71194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7" descr="64_f.gif"/>
          <p:cNvPicPr/>
          <p:nvPr/>
        </p:nvPicPr>
        <p:blipFill>
          <a:blip r:embed="rId1"/>
          <a:stretch/>
        </p:blipFill>
        <p:spPr>
          <a:xfrm>
            <a:off x="468360" y="146052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10"/>
          <p:cNvSpPr/>
          <p:nvPr/>
        </p:nvSpPr>
        <p:spPr>
          <a:xfrm>
            <a:off x="452520" y="4643280"/>
            <a:ext cx="900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Заголовок 1"/>
          <p:cNvSpPr/>
          <p:nvPr/>
        </p:nvSpPr>
        <p:spPr>
          <a:xfrm>
            <a:off x="-47520" y="193680"/>
            <a:ext cx="628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  <a:ea typeface="Arial"/>
              </a:rPr>
              <a:t>Организация муниципального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Схема 8" descr=""/>
          <p:cNvPicPr/>
          <p:nvPr/>
        </p:nvPicPr>
        <p:blipFill>
          <a:blip r:embed="rId2"/>
          <a:stretch/>
        </p:blipFill>
        <p:spPr>
          <a:xfrm>
            <a:off x="371520" y="3693960"/>
            <a:ext cx="2085840" cy="7858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089240" y="1341360"/>
            <a:ext cx="540072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ловской области численность населения ежегодно уменьшается за счет превышения количества умерших над количеством родившихся, начиная с 1995 года, то есть более 14 лет. Только за последние 4 года численность населения области сократилась на 25,5 тыс. человек и составила на 1 января 2009 года 816,9 тыс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иная с 2005 года, количество родившихся растет, умерших – сокращается. Позитивные демографические тенденции сохранились и в 2008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уменьшилась среднегодовая численность постоянного численность населения в 2008 году по сравнению с 2007 году в пяти муниципальных районах области: Кромском, Болховском, Свердловском, а в Орловском и Хотынецком даже немного (на 0,3 и 0,4%) подрос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8880" y="4724280"/>
            <a:ext cx="9001080" cy="20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ьшее сокращение численности населения (от 1,6 до 2,8%) зафиксировано в Колпнянском, Краснозоренском, Должанском, Дмитровской и Шаблыкинском райо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5 муниципальных образованиях уменьшение численности населения по итогам 2008 года превышало среднеобластное сокращение (0,6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здавшихся условиях только успешная реализация программы демографической безопасности, повышение рождаемости, снижение смертности и эффективная миграционная политика могут принципиально решить проблему депопуляции населения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452520" y="12142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2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CA1-1457-43CE-AA1F-6D3555AFB02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5040" y="71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ведение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88880" y="1146240"/>
            <a:ext cx="9001080" cy="45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честве исходных данных для проведения мониторинга эффективности деятельности органов местного самоуправления были использованы официальные данные, представленные в докладах глав местных администраций городских округов и муниципальных рай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этом основной акцент сделан на оценке показателей, значение которых максимально зависит от эффективности муниципального управления и отражает качество жизни населения, формирование условий для социально-экономического развития территории. Кроме того, в муниципальном разрезе проведен расчет неэффективных рас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зультаты проведенного мониторинга позволяют определить зоны, требующие приоритетного внимания органов местного самоуправления, сформировать перечень мероприятий по повышению результативности деятельности органов местного самоуправления, в том числе по снижению неэффективных расходов, а также выявить внутренние ресурсы (финансовые, материально-технические, кадровые и другие) для повышения качества и объема предоставляемых населению услуг и увеличения заработной платы работников бюджетной сф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ские округа и муниципальные районы имеют различные условия для экономического развития. Система бюджетного выравнивания, призванная нивелировать региональные различия, полностью решить эту проблему не может. Поэтому, как правило, более низкие показатели в муниципалитетах имеют под собой объективную осн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67C-7534-4CD9-B9A8-B5515DA44C2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5040" y="71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ведение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88880" y="1141560"/>
            <a:ext cx="900108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, тем не менее, вдвойне показательно и наглядно видна эффективность работы органов власти, и всех жителей территории там, где боле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высокие результаты социально-экономического развития достигнуты при наличии «худших» у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вязи с этим основным стержнем региональной политики нужно считать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иентир на увеличение собственных источников доходов муниципальных образова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это особенно актуально в условиях сегодняшнего финансово-экономического кризиса, когда возможности областного бюджета весьма огранич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, в первую очередь, должны создавать условия и стимулы для привлечения инвестиций, поддержки предпринимательской активности, в том числе развитии малого и среднего бизнеса, формировать  необходимую инфраструктуру, создавать условия для снижения безработицы и административных барьеров, развития человеческого капит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ниторинг эффективности деятельности органов местного самоуправления создает предпосылки для системного исследования результативности управления муниципальными образованиями, принятия решений и мер по дальнейшему совершенствованию муниципального управления, а также поощрения муниципальных образований, достигших наилучших значений показ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72F9-D14B-4C4B-A3DB-75B9A6AD0A7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595440" y="102708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ля протяженности автомобильных  дорог общего пользования местного значения с твердым покрытием в общей протяженности  автомобильных дорог общего пользования местного зна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6" descr="3_f.gif"/>
          <p:cNvPicPr/>
          <p:nvPr/>
        </p:nvPicPr>
        <p:blipFill>
          <a:blip r:embed="rId1"/>
          <a:stretch/>
        </p:blipFill>
        <p:spPr>
          <a:xfrm>
            <a:off x="3309840" y="2428920"/>
            <a:ext cx="3333960" cy="2700360"/>
          </a:xfrm>
          <a:prstGeom prst="rect">
            <a:avLst/>
          </a:prstGeom>
          <a:ln w="0">
            <a:noFill/>
          </a:ln>
        </p:spPr>
      </p:pic>
      <p:pic>
        <p:nvPicPr>
          <p:cNvPr id="207" name="Схема 7" descr=""/>
          <p:cNvPicPr/>
          <p:nvPr/>
        </p:nvPicPr>
        <p:blipFill>
          <a:blip r:embed="rId2"/>
          <a:stretch/>
        </p:blipFill>
        <p:spPr>
          <a:xfrm>
            <a:off x="3230640" y="4767120"/>
            <a:ext cx="2011320" cy="603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080" y="7920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4_f.gif"/>
          <p:cNvPicPr/>
          <p:nvPr/>
        </p:nvPicPr>
        <p:blipFill>
          <a:blip r:embed="rId1"/>
          <a:stretch/>
        </p:blipFill>
        <p:spPr>
          <a:xfrm>
            <a:off x="468360" y="228600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44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оля населения, проживающего в  населенных пунктах, не имеющих регулярного автобусного и (или) железнодорожного сообщения с  административным центром   городского округа (муниципального  района), в общей численности  населения городского округа (муниципального района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8A9-39B7-414D-AB4E-EF94528BE70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3809880" y="2428920"/>
            <a:ext cx="5643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олько в крупных городах Орловской области (Орел, Ливны и Мценск) население в полном объеме обеспечено регулярными автобусными сообщениями. Транспортная доступность объясняется высокой экономической эффективностью перевозок в связи с большим пассажиропотоком и относительно короткими по протяженности маршру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13 муниципальных образованиях доля населения проживающего в  населенных пунктах, не имеющих регулярного автобусного и (или) железнодорожного сообщения с  административным центром составляет от 1 до 13%, что объясняется экономической неэффективностью отдельных маршрутов в связи с низким пассажиропото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8" descr=""/>
          <p:cNvPicPr/>
          <p:nvPr/>
        </p:nvPicPr>
        <p:blipFill>
          <a:blip r:embed="rId2"/>
          <a:stretch/>
        </p:blipFill>
        <p:spPr>
          <a:xfrm>
            <a:off x="371520" y="4479840"/>
            <a:ext cx="2017800" cy="6048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1"/>
          <p:cNvSpPr/>
          <p:nvPr/>
        </p:nvSpPr>
        <p:spPr>
          <a:xfrm>
            <a:off x="452520" y="5189400"/>
            <a:ext cx="900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муниципальным образования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утсайдерам, относятся Должанский, Краснозоренский, Корсаковский, Покровский и Сосковский районы, в которых доля населения, не обеспеченного регулярными автобусными и (или) железнодорожными сообщениями с  административным центром более 20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7" descr="50_f.gif"/>
          <p:cNvPicPr/>
          <p:nvPr/>
        </p:nvPicPr>
        <p:blipFill>
          <a:blip r:embed="rId1"/>
          <a:stretch/>
        </p:blipFill>
        <p:spPr>
          <a:xfrm>
            <a:off x="468360" y="1628640"/>
            <a:ext cx="3333600" cy="2700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3800" y="857160"/>
            <a:ext cx="89582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щая площадь жилых помещений, приходящаяся в среднем на одного  жителя - всего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Номер слайда 9"/>
          <p:cNvSpPr/>
          <p:nvPr/>
        </p:nvSpPr>
        <p:spPr>
          <a:xfrm>
            <a:off x="7570800" y="6572160"/>
            <a:ext cx="2311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1909-49BA-4BDD-A8BE-FBAD7FF8A5B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3809880" y="1500120"/>
            <a:ext cx="5572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редний по Орловской области уровень обеспеченности населения жильем составляет 22,86 кв. м. на одного чело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16 муниципальных образованиях общая площадь жилых помещений, приходящаяся в среднем на одного  жителя выше среднеобластного показателя. Наибольшие (более 28 кв. м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казатели достигнуты в Краснозоренском, Малоархангельском и Троснянском районах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уровне среднеобластного показателя обеспеченность жильем достигнута в 4 муниципальных образованиях области (Верховский, Глазуновский, Кромской и Покровский район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муниципальным образованиям – аутсайдерам (менее 20 кв. м. на человека) следует отнести 4 муниципальных образования – Должанский, Знаменский, Орловский и Урицкий рай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хема 6" descr=""/>
          <p:cNvPicPr/>
          <p:nvPr/>
        </p:nvPicPr>
        <p:blipFill>
          <a:blip r:embed="rId2"/>
          <a:stretch/>
        </p:blipFill>
        <p:spPr>
          <a:xfrm>
            <a:off x="231840" y="3956040"/>
            <a:ext cx="2657520" cy="59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0"/>
          <p:cNvSpPr/>
          <p:nvPr/>
        </p:nvSpPr>
        <p:spPr>
          <a:xfrm>
            <a:off x="452520" y="4756320"/>
            <a:ext cx="8929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2008 год в области введено в среднем 0,4 кв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на одного человека. Учитывая необходимость достижения к 2020 году уровня обеспеченности населения на уровне 28,5 кв. м. в расчете на одного человека, только в 8 муниципальных образованиях существующие темпы строительства позволяют достичь целевое значение: в городах Орел и Мценск, в Малоархангельском, Новосильском, Свердловском, Хотынецком, Троснянском, Шаблыкинском районах. К муниципальным образованиям – аутсайдерам (менее 22 кв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на человека к 2020 году) по достижению целевого значения следует отнести 5 муниципальных образований – Должанский, Знаменский, Орловский, Колпнянский и Урицкий рай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109440" y="7920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ство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7:31:05Z</dcterms:created>
  <dc:creator>Аппарат Губернатора и правительства Орловской области</dc:creator>
  <dc:description/>
  <dc:language>en-US</dc:language>
  <cp:lastModifiedBy>asv</cp:lastModifiedBy>
  <dcterms:modified xsi:type="dcterms:W3CDTF">2009-09-30T08:32:08Z</dcterms:modified>
  <cp:revision>585</cp:revision>
  <dc:subject/>
  <dc:title>Мониторинг эффективности деятельности </dc:title>
</cp:coreProperties>
</file>